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0547-6CD2-4DB9-9738-A83D0D4B6BC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fhjty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BCA-6EAB-4124-8D35-4347894B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366-94C8-43E3-8374-03B4689C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317-5310-4F1D-AA2A-2EA06199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83B-AF82-4872-85F9-2ACBECEC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5BFD-04FC-4BFF-9C20-7EBFAE19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7B4-3241-4F5E-A249-6575116D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778-FC81-4DB7-A633-E1EB87DC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847-E0A2-437E-B926-70290ADC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33C-8361-421B-A114-FAF78F30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D87-6C5B-452A-9166-713C5A83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9BA-EF83-4C55-96AB-70036D2B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863-21DC-4498-9580-8D69695E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CA66-D5AB-4FAA-831C-ED87AD356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080" y="297000"/>
            <a:ext cx="521604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Martinho Da V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No Embalo Do Sa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luna:Giovana e Pol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7º: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Nº:13 e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377352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no embalo do meu samba que eu vou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evando a vida do jeito que Deus mandou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oi no balanço do cavaco do Mané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o meu samba devagar foi dando pé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i que saudade da Rosinha de Valenç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u sorriso e seu suingue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dilhando o violão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no embalo do meu samba que eu vou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evando a vida do jeito que Deus mandou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mplicidade do Carci lá da Mangueir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imeiro som com o Manoel de Sapucai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foi o grande professor do Alceu Mai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não tem adversário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 seu cavaco na mão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24320" y="0"/>
            <a:ext cx="4819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no embalo do meu samba que eu vou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evando a vida do jeito que Deus mandou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oi no balanço do cavaco do Mané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o meu samba devagar foi dando pé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i que saudade da Rosinha de Valenç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u sorriso e seu suingue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dilhando o violão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pois chegou o Manoel da Conceição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 foi aí que o meu samba ficou bom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É no embalo do meu samba que eu vou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evando a vida do jeito que Deus mandou 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 o Rildo Hor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é da terra do Cordel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aleja pros amigos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já estão lá no céu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 quando aflor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á da gaita um som de mel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Vem saudade dos Carlinhos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e estão mesmo lá no céu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8:35:06Z</dcterms:created>
  <dc:creator>SEDMS</dc:creator>
  <dc:description/>
  <dc:language>en-US</dc:language>
  <cp:lastModifiedBy>SEDMS</cp:lastModifiedBy>
  <dcterms:modified xsi:type="dcterms:W3CDTF">2010-11-08T18:56:43Z</dcterms:modified>
  <cp:revision>2</cp:revision>
  <dc:subject/>
  <dc:title>Slide 1</dc:title>
</cp:coreProperties>
</file>